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1BC-30FA-4794-BB84-FBF0C3F1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D1E-1BE0-41BF-8EBA-AB2C6F86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EDF-EBBE-43B0-A3B6-89A5B14C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88E-FD1F-4AC0-B902-8F1AE6F2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88B-584D-4999-B270-65DF44FB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E5F-4BD0-4DDD-AA92-FA928194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701-271A-461F-980F-F2F33BBF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EB9-930F-4984-9B2D-F5C29A10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2C0-9619-478C-92A9-21AD4070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F3C-CCF6-49EE-BB93-A2B3BEC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A6D-79F8-4C8B-B246-81F9DE6D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3E2-24FB-46DC-A4CE-57CA7A4F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E9AC-0ED9-47A8-BE8B-7DA403D3A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aker College</cp:lastModifiedBy>
  <dcterms:modified xsi:type="dcterms:W3CDTF">2013-04-19T00:53:16Z</dcterms:modified>
  <cp:revision>7</cp:revision>
  <dc:subject/>
  <dc:title>Instructional Objectives</dc:title>
</cp:coreProperties>
</file>