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D31-B926-48FF-9775-91203655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B9E-C96F-42E6-8AEC-5BC3F0F8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5F4-214B-4E3F-AEB5-2489A3D0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B1C-4E1F-4AAB-816E-79CC3ABC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F3F-7BDF-4505-A6FE-383B81B9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C93-02C2-4CEF-B8B8-E1946937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F29-43C4-4BED-B64D-8EC0467C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D06-833A-4CF6-9B66-C29E75F3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4F0-3F60-45E6-AF79-8D05D3BE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B39-AA3D-42CC-81DC-7B41FB88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A36-70CD-43C9-AD3E-F5C12CEB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210-A387-4D8E-8EC4-201E85FC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7188-2D39-4396-9504-8AECA66B3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aker College</cp:lastModifiedBy>
  <dcterms:modified xsi:type="dcterms:W3CDTF">2013-04-19T00:53:16Z</dcterms:modified>
  <cp:revision>7</cp:revision>
  <dc:subject/>
  <dc:title>Instructional Objectives</dc:title>
</cp:coreProperties>
</file>