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CE0-D9B6-4F3F-9D62-1573DB16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CB0-6835-4B95-BE89-33795221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19B-E783-48FD-B8D3-274117E5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3EE-122A-4BDD-9700-8EF9A66F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350-BAEF-4D71-8090-6564EC3C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431-7E4A-4FE8-B6E4-E8DA46D4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D89-18B3-4874-886E-FE602C43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5CE-E89E-4060-9E19-A702BE4F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523-12C8-43C8-B9A1-B6E5162F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F0B-5C71-4CE9-A329-6DE4ABB3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80E-2207-482B-8E54-64B4261D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618-D72D-4803-AB83-2E8F7790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8B6B-A2B4-4C8A-8F69-46599296E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aker College</cp:lastModifiedBy>
  <dcterms:modified xsi:type="dcterms:W3CDTF">2013-04-19T00:53:16Z</dcterms:modified>
  <cp:revision>7</cp:revision>
  <dc:subject/>
  <dc:title>Instructional Objectives</dc:title>
</cp:coreProperties>
</file>